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png" ContentType="image/png"/>
  <Override PartName="/ppt/media/image15.jpeg" ContentType="image/jpeg"/>
  <Override PartName="/ppt/media/image7.jpeg" ContentType="image/jpeg"/>
  <Override PartName="/ppt/media/image18.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183F6-9FBE-4317-9214-CA7EF6725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471FE-33AB-4A5F-9620-44F97F1C1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47A23-FAFF-4408-9AF4-C8E41AC3C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7311B-FD29-4BDC-954F-531353869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CAEFD-4FE9-4FBC-B97B-35C0C6CDA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A3CB1-8D8A-48A6-A8FB-21310FA81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24508-2642-4C17-9538-D089810CB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D69FC-816E-4D5B-B9A1-4B0E59B54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588A2-FEC7-4FC7-AE99-2034AF783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2EA26-12EF-4E53-B939-D551440CB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5F22A-42E0-4F75-94D3-08B4A25A7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BAD1E-E48E-46F6-8D9F-889C3D31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0EC9F-5ED2-42F4-88F6-CE40A4571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B7F13-4A2B-4AE4-84D9-75249ABE9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4131C-B9B9-44AE-A6C1-D6E3B02D0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02510-A03C-49BC-9112-21BF00775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B4D5A-D383-41B4-9275-65DCC6DB1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E04BAA-23DA-4306-BE31-B85AEED107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89D25-F92A-4CC8-B0CE-DFAA5453E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B6AAF1-55E4-4FE0-8532-40B223D3B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60777-7AF1-4A93-9ED1-1C80A7F09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B3F15-2C6A-4BED-9110-AE1BB4D0D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0C8B-1746-4EC0-8334-D2BF63B6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05C8E-7D2D-41F9-B71E-FC2790D8C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B1CB7-3F53-42EE-981F-2A8EFCEED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CF4E0-D7CB-4945-B16D-59B8D668F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E9628-7F8C-4510-9597-918FD3EB2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D3BC1-5F91-4F13-A404-035D9C1E1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9CC045-215E-4871-89A9-5335CF0ED9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BAE8D8-E369-489D-8B7F-792096DCFE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BB24-B674-4E60-B9EE-6C92E3F8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9413-F901-44C0-8C3B-6F4CD5CCB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74B1-A30B-4A3F-9962-BA0FF22B4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5E92-D34E-4AB8-A1E1-A4425B13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9634-6279-4A44-A70F-20253F80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218E-0FD8-4D75-8F84-AC1F421F0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93B7-B83E-4AEA-98A8-AD36E62612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AD37-56DD-44A5-B218-42D2E20D8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0476-7CD1-4046-BA99-06A678EA6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www.merinews.com/upload/thumbimage/1237673666713.jpg&amp;imgrefurl=http://www.merinews.com/article/innovative-management-in-times-of-meltdown/15753863.shtml&amp;usg=___D9mhb1YPozvXQJSBwOHe-g7iiQ=&amp;h=288&amp;w=450&amp;sz=22&amp;hl=en&amp;start=2&amp;um=1&amp;itbs=1&amp;tbnid=-e1J_MTMU-MmPM:&amp;tbnh=81&amp;tbnw=127&amp;prev=/images%3Fq%3Dinnovative%2Bmanagement%2Bimages%26um%3D1%26hl%3Den%26sa%3DX%26tbs%3Disch:1" TargetMode="External"/><Relationship Id="rId2" Type="http://schemas.openxmlformats.org/officeDocument/2006/relationships/image" Target="../media/image4.jpeg"/><Relationship Id="rId3"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hyperlink" Target="http://www.google.com/imgres?imgurl=http://blog.modernmechanix.com/mags/MechanixIllustrated/8-1941/new_products/new_products_0.jpg&amp;imgrefurl=http://blog.modernmechanix.com/2008/03/30/new-products-and-inventions/&amp;usg=__dYbtrcaqyew_5gJzxbWuCQWtGoQ=&amp;h=2656&amp;w=1821&amp;sz=1258&amp;hl=en&amp;start=5&amp;um=1&amp;itbs=1&amp;tbnid=Z3crfD-PX_QtcM:&amp;tbnh=150&amp;tbnw=103&amp;prev=/images%3Fq%3DNew%2Bproducts%2Bimages%26um%3D1%26hl%3Den%26sa%3DG%26tbs%3Disch:1" TargetMode="External"/><Relationship Id="rId2" Type="http://schemas.openxmlformats.org/officeDocument/2006/relationships/image" Target="../media/image6.jpeg"/><Relationship Id="rId3" Type="http://schemas.openxmlformats.org/officeDocument/2006/relationships/hyperlink" Target="http://www.google.com/imgres?imgurl=http://blogs.intel.com/technology/images/blog/ibm_gadget.jpg&amp;imgrefurl=http://blogs.intel.com/technology/2007/09/new_technology_spotted_at_idf.php&amp;usg=__fdtUx_E5nsdZVF7gob4VFNk-_3E=&amp;h=300&amp;w=400&amp;sz=12&amp;hl=en&amp;start=10&amp;um=1&amp;itbs=1&amp;tbnid=e4Kk7Y1btLfngM:&amp;tbnh=93&amp;tbnw=124&amp;prev=/images%3Fq%3DNew%2Btechnology%2Bimages%26um%3D1%26hl%3Den%26sa%3DG%26tbs%3Disch:1" TargetMode="External"/><Relationship Id="rId4" Type="http://schemas.openxmlformats.org/officeDocument/2006/relationships/image" Target="../media/image7.jpeg"/><Relationship Id="rId5" Type="http://schemas.openxmlformats.org/officeDocument/2006/relationships/hyperlink" Target="http://www.google.com/imgres?imgurl=http://www.competenceimage.ch/includes/pix/logo.jpg&amp;imgrefurl=http://www.competenceimage.ch/contact.html&amp;usg=__7-1N6dTtWpozewUz9Pr51ifmX1g=&amp;h=124&amp;w=192&amp;sz=7&amp;hl=en&amp;start=11&amp;um=1&amp;itbs=1&amp;tbnid=la9e8cR8oCCuAM:&amp;tbnh=67&amp;tbnw=103&amp;prev=/images%3Fq%3DCompetenceimages%26um%3D1%26hl%3Den%26sa%3DG%26tbs%3Disch:1" TargetMode="External"/><Relationship Id="rId6" Type="http://schemas.openxmlformats.org/officeDocument/2006/relationships/image" Target="../media/image8.jpeg"/><Relationship Id="rId7" Type="http://schemas.openxmlformats.org/officeDocument/2006/relationships/hyperlink" Target="http://www.google.com/imgres?imgurl=http://www.isd109.org/i/improvement.gif&amp;imgrefurl=http://www.isd109.org/Improvement_Eval.htm&amp;usg=__S0BQ2I3Yj6rLlQBGdcHPtn2u0v0=&amp;h=300&amp;w=380&amp;sz=29&amp;hl=en&amp;start=8&amp;um=1&amp;itbs=1&amp;tbnid=eCsShfS58hptDM:&amp;tbnh=97&amp;tbnw=123&amp;prev=/images%3Fq%3Dimprovement%2Bimages%26um%3D1%26hl%3Den%26sa%3DG%26tbs%3Disch:1"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google.com/imgres?imgurl=http://www.designsbymkg.com/store/images/brainstorm.jpg&amp;imgrefurl=http://www.designsbymkg.com/store/index.php%3Fmain_page%3Dindex%26cPath%3D70_89_93_104&amp;usg=__KGJwCtzQDI9fc1ZORzjrHtO194g=&amp;h=431&amp;w=600&amp;sz=67&amp;hl=en&amp;start=1&amp;um=1&amp;itbs=1&amp;tbnid=OjD7Tr60kTXv_M:&amp;tbnh=97&amp;tbnw=135&amp;prev=/images%3Fq%3DBrainstorming%2Bimages%26um%3D1%26hl%3Den%26sa%3DX%26tbs%3Disch:1" TargetMode="External"/><Relationship Id="rId2" Type="http://schemas.openxmlformats.org/officeDocument/2006/relationships/image" Target="../media/image11.jpeg"/><Relationship Id="rId3" Type="http://schemas.openxmlformats.org/officeDocument/2006/relationships/slideLayout" Target="../slideLayouts/slideLayout16.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logicalscience.files.wordpress.com/2009/09/virtual-reality-8.jpg&amp;imgrefurl=http://logicalscience.wordpress.com/2009/09/06/compsci-virtual-reality-and-the-medical-field/&amp;usg=__cR0tS7GFFOsWquwqW_5EUNa3A4A=&amp;h=358&amp;w=400&amp;sz=17&amp;hl=en&amp;start=6&amp;um=1&amp;itbs=1&amp;tbnid=xjucC9n90_5RMM:&amp;tbnh=111&amp;tbnw=124&amp;prev=/images%3Fq%3DVirtual%2Bimages%26um%3D1%26hl%3Den%26sa%3DG%26tbs%3Disch:1" TargetMode="External"/><Relationship Id="rId2" Type="http://schemas.openxmlformats.org/officeDocument/2006/relationships/image" Target="../media/image12.jpeg"/><Relationship Id="rId3"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hyperlink" Target="http://www.google.com/imgres?imgurl=http://www.cinfosoft.com/en/images/agile.JPG&amp;imgrefurl=http://www.cinfosoft.com/en/product.html&amp;usg=__PrfSsH1c3z3WEFfXrFtdXOfRmIM=&amp;h=300&amp;w=400&amp;sz=55&amp;hl=en&amp;start=12&amp;um=1&amp;itbs=1&amp;tbnid=LWvi2e7MMs4SsM:&amp;tbnh=93&amp;tbnw=124&amp;prev=/images%3Fq%3DProduct%2Blifecycle%2Bimages%26um%3D1%26hl%3Den%26sa%3DG%26tbs%3Disch:1" TargetMode="External"/><Relationship Id="rId2" Type="http://schemas.openxmlformats.org/officeDocument/2006/relationships/image" Target="../media/image13.jpeg"/><Relationship Id="rId3" Type="http://schemas.openxmlformats.org/officeDocument/2006/relationships/hyperlink" Target="http://www.google.com/imgres?imgurl=http://www.jato.com/PublishingImages/ProductLifeCycle0.jpg&amp;imgrefurl=http://www.jato.com/USA/Productsandservices/Manufacturers/pages/default.aspx&amp;usg=__SBeLoLzok7-1WzbwTS8eGBuuEwo=&amp;h=300&amp;w=300&amp;sz=22&amp;hl=en&amp;start=13&amp;um=1&amp;itbs=1&amp;tbnid=epJ4aBjppOq_-M:&amp;tbnh=116&amp;tbnw=116&amp;prev=/images%3Fq%3DProduct%2Blifecycle%2Bimages%26um%3D1%26hl%3Den%26sa%3DG%26tbs%3Disch:1" TargetMode="External"/><Relationship Id="rId4" Type="http://schemas.openxmlformats.org/officeDocument/2006/relationships/image" Target="../media/image14.jpeg"/><Relationship Id="rId5" Type="http://schemas.openxmlformats.org/officeDocument/2006/relationships/slideLayout" Target="../slideLayouts/slideLayout16.xml"/>
</Relationships>
</file>

<file path=ppt/slides/_rels/slide23.xml.rels><?xml version="1.0" encoding="UTF-8"?>
<Relationships xmlns="http://schemas.openxmlformats.org/package/2006/relationships"><Relationship Id="rId1" Type="http://schemas.openxmlformats.org/officeDocument/2006/relationships/hyperlink" Target="http://www.google.com/imgres?imgurl=http://prohealthcareproducts.com/images/baseline-scoliosis-screening-meter.jpg&amp;imgrefurl=http://prohealthcareproducts.com/chiropractic-c-28/baseline-scoliosis-screening-meter-p-563&amp;usg=__tfCHdPd7Eaj7ZzmNZF4q-L_xyUM=&amp;h=327&amp;w=282&amp;sz=19&amp;hl=en&amp;start=44&amp;um=1&amp;itbs=1&amp;tbnid=Vw87I7LlMB7v1M:&amp;tbnh=118&amp;tbnw=102&amp;prev=/images%3Fq%3Dproduct%2Bscreening%2Bimages%26start%3D40%26um%3D1%26hl%3Den%26sa%3DN%26ndsp%3D20%26tbs%3Disch:1" TargetMode="External"/><Relationship Id="rId2" Type="http://schemas.openxmlformats.org/officeDocument/2006/relationships/image" Target="../media/image15.jpeg"/><Relationship Id="rId3" Type="http://schemas.openxmlformats.org/officeDocument/2006/relationships/slideLayout" Target="../slideLayouts/slideLayout16.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unite.nokiasiemensnetworks.com/article/articleimage%3Fid%3D114&amp;imgrefurl=http://unite.nokiasiemensnetworks.com/adwords/article/view/id/114&amp;usg=__tT8twEaKW2jXXRHgElZ3NEtls34=&amp;h=227&amp;w=294&amp;sz=16&amp;hl=en&amp;start=7&amp;um=1&amp;itbs=1&amp;tbnid=VD-SRt67KPUxNM:&amp;tbnh=89&amp;tbnw=115&amp;prev=/images%3Fq%3Dinnovative%2Bmanagement%2Bimages%26um%3D1%26hl%3Den%26sa%3DX%26tbs%3Disch:1" TargetMode="External"/><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f </a:t>
            </a:r>
            <a:r>
              <a:rPr b="0" i="1" lang="es-ES" sz="2800" spc="-1" strike="noStrike">
                <a:solidFill>
                  <a:srgbClr val="000000"/>
                </a:solidFill>
                <a:latin typeface="Arial"/>
              </a:rPr>
              <a:t>distribution</a:t>
            </a:r>
            <a:r>
              <a:rPr b="0" lang="es-ES" sz="2800" spc="-1" strike="noStrike">
                <a:solidFill>
                  <a:srgbClr val="000000"/>
                </a:solidFill>
                <a:latin typeface="Arial"/>
              </a:rPr>
              <a:t>, it affects the range of action of the economic agent, or in other words the geographical expanse of its market. This comprises the network of partners and channels used to do business in each and every market. It is embodied in the range of subsidiaries, intermediaries, suppliers, dealerships and contacts, as much as in the outsourcing, support, agency or other contract agreements and the means to enforce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oday’s tidal wave of global economic, technological, and social change, the number one strategic goal of businesses is to gain and maintain competitive advant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a:hlinkClick r:id="rId1"/>
          </p:cNvP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0" y="914400"/>
            <a:ext cx="876312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programs of continuous improvements companies try to reduce costs, to enhance</a:t>
            </a:r>
            <a:r>
              <a:rPr b="0" lang="en-US" sz="2800" spc="-1" strike="noStrike">
                <a:solidFill>
                  <a:srgbClr val="009999"/>
                </a:solidFill>
                <a:latin typeface="Arial"/>
              </a:rPr>
              <a:t> </a:t>
            </a:r>
            <a:r>
              <a:rPr b="0" lang="en-US" sz="2800" spc="-1" strike="noStrike">
                <a:solidFill>
                  <a:srgbClr val="000000"/>
                </a:solidFill>
                <a:latin typeface="Arial"/>
              </a:rPr>
              <a:t>quality, and to increase speed of responsiveness to customer need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ly, most businesses have some sort of innovation program on their agenda to stay ahead of (or at least keep pace with) their competito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novation Management is the discipline of managing process in research and development (R&amp;D) and innovat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5"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can be used to develop both product and organizational inno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out proper processes, it is not possible for R&amp;D to be efficient; innovation management includes a set of tools that allow managers and engineers to cooperate with a common understanding of goals and proces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ocus of innovation management is to allow an organization to respond to external and internal opportunity, and use its creative efforts to introduce new ideas, processes and produ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200" spc="-1" strike="noStrike">
                <a:solidFill>
                  <a:srgbClr val="000000"/>
                </a:solidFill>
                <a:latin typeface="Arial"/>
              </a:rPr>
              <a:t>Innovation is the key driver of competitive advantage, growth and profitabi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many parts of the whole field of innovation: strategy innovation, new product development, creative approaches to problem solving, idea management, suggestion systems, et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novation management model</a:t>
            </a:r>
            <a:endParaRPr b="0" lang="en-US" sz="3200" spc="-1" strike="noStrike">
              <a:solidFill>
                <a:srgbClr val="ffffff"/>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economic management brings an organization back into contact with the fundamentals, which have often been lost sight of in the management models of recent decades. To perform sustainably, it is vital to achieve sustainable social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erformance</a:t>
            </a:r>
            <a:endParaRPr b="0" lang="en-US" sz="3200" spc="-1" strike="noStrike">
              <a:solidFill>
                <a:srgbClr val="ffffff"/>
              </a:solidFill>
              <a:latin typeface="Arial"/>
            </a:endParaRPr>
          </a:p>
        </p:txBody>
      </p:sp>
      <p:sp>
        <p:nvSpPr>
          <p:cNvPr id="16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performance</a:t>
            </a:r>
            <a:r>
              <a:rPr b="0" lang="en-US" sz="2800" spc="-1" strike="noStrike">
                <a:solidFill>
                  <a:srgbClr val="000000"/>
                </a:solidFill>
                <a:latin typeface="Arial"/>
              </a:rPr>
              <a:t> is achieved through </a:t>
            </a:r>
            <a:r>
              <a:rPr b="0" i="1" lang="en-US" sz="2800" spc="-1" strike="noStrike">
                <a:solidFill>
                  <a:srgbClr val="000000"/>
                </a:solidFill>
                <a:latin typeface="Arial"/>
              </a:rPr>
              <a:t>six factors</a:t>
            </a:r>
            <a:r>
              <a:rPr b="0" lang="en-US" sz="2800" spc="-1" strike="noStrike">
                <a:solidFill>
                  <a:srgbClr val="000000"/>
                </a:solidFill>
                <a:latin typeface="Arial"/>
              </a:rPr>
              <a:t>, all of which contribute to the organization's </a:t>
            </a:r>
            <a:r>
              <a:rPr b="0" i="1" lang="en-US" sz="2800" spc="-1" strike="noStrike">
                <a:solidFill>
                  <a:srgbClr val="000000"/>
                </a:solidFill>
                <a:latin typeface="Arial"/>
              </a:rPr>
              <a:t>integral qualit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implement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ondi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organiz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co-ordination &amp; co-oper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trai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onomic performance</a:t>
            </a:r>
            <a:endParaRPr b="0" lang="en-US" sz="3200" spc="-1" strike="noStrike">
              <a:solidFill>
                <a:srgbClr val="ffff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conomic performance</a:t>
            </a:r>
            <a:r>
              <a:rPr b="0" lang="en-US" sz="2800" spc="-1" strike="noStrike">
                <a:solidFill>
                  <a:srgbClr val="000000"/>
                </a:solidFill>
                <a:latin typeface="Arial"/>
              </a:rPr>
              <a:t> involves both immediate results and creating the potential for future prog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ults: plans for action in the short ter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effectiv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competitiv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bil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self-financ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potential</a:t>
            </a:r>
            <a:endParaRPr b="0" lang="en-US" sz="3200" spc="-1" strike="noStrike">
              <a:solidFill>
                <a:srgbClr val="ffffff"/>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ng potential: long-term and medium-term strate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duc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s of employe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ing continuous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competitiveness </a:t>
            </a:r>
            <a:endParaRPr b="0" lang="en-US" sz="2400" spc="-1" strike="noStrike">
              <a:solidFill>
                <a:srgbClr val="000000"/>
              </a:solidFill>
              <a:latin typeface="Arial"/>
            </a:endParaRPr>
          </a:p>
        </p:txBody>
      </p:sp>
      <p:sp>
        <p:nvSpPr>
          <p:cNvPr id="1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a:hlinkClick r:id="rId1"/>
          </p:cNvPr>
          <p:cNvPicPr/>
          <p:nvPr/>
        </p:nvPicPr>
        <p:blipFill>
          <a:blip r:embed="rId2"/>
          <a:stretch/>
        </p:blipFill>
        <p:spPr>
          <a:xfrm>
            <a:off x="4952880" y="1676520"/>
            <a:ext cx="1371600" cy="2057400"/>
          </a:xfrm>
          <a:prstGeom prst="rect">
            <a:avLst/>
          </a:prstGeom>
          <a:ln w="0">
            <a:noFill/>
          </a:ln>
        </p:spPr>
      </p:pic>
      <p:pic>
        <p:nvPicPr>
          <p:cNvPr id="168" name="" descr="">
            <a:hlinkClick r:id="rId3"/>
          </p:cNvPr>
          <p:cNvPicPr/>
          <p:nvPr/>
        </p:nvPicPr>
        <p:blipFill>
          <a:blip r:embed="rId4"/>
          <a:stretch/>
        </p:blipFill>
        <p:spPr>
          <a:xfrm>
            <a:off x="4952880" y="3809880"/>
            <a:ext cx="1494000" cy="1676520"/>
          </a:xfrm>
          <a:prstGeom prst="rect">
            <a:avLst/>
          </a:prstGeom>
          <a:ln w="0">
            <a:noFill/>
          </a:ln>
        </p:spPr>
      </p:pic>
      <p:pic>
        <p:nvPicPr>
          <p:cNvPr id="169" name="" descr="">
            <a:hlinkClick r:id="rId5"/>
          </p:cNvPr>
          <p:cNvPicPr/>
          <p:nvPr/>
        </p:nvPicPr>
        <p:blipFill>
          <a:blip r:embed="rId6"/>
          <a:stretch/>
        </p:blipFill>
        <p:spPr>
          <a:xfrm>
            <a:off x="6705720" y="1676520"/>
            <a:ext cx="1406520" cy="1752480"/>
          </a:xfrm>
          <a:prstGeom prst="rect">
            <a:avLst/>
          </a:prstGeom>
          <a:ln w="0">
            <a:noFill/>
          </a:ln>
        </p:spPr>
      </p:pic>
      <p:pic>
        <p:nvPicPr>
          <p:cNvPr id="170" name="" descr="">
            <a:hlinkClick r:id="rId7"/>
          </p:cNvPr>
          <p:cNvPicPr/>
          <p:nvPr/>
        </p:nvPicPr>
        <p:blipFill>
          <a:blip r:embed="rId8"/>
          <a:stretch/>
        </p:blipFill>
        <p:spPr>
          <a:xfrm>
            <a:off x="6705720" y="3581280"/>
            <a:ext cx="1406520" cy="1108080"/>
          </a:xfrm>
          <a:prstGeom prst="rect">
            <a:avLst/>
          </a:prstGeom>
          <a:ln w="0">
            <a:noFill/>
          </a:ln>
        </p:spPr>
      </p:pic>
      <p:pic>
        <p:nvPicPr>
          <p:cNvPr id="171" name="" descr=""/>
          <p:cNvPicPr/>
          <p:nvPr/>
        </p:nvPicPr>
        <p:blipFill>
          <a:blip r:embed="rId9"/>
          <a:stretch/>
        </p:blipFill>
        <p:spPr>
          <a:xfrm>
            <a:off x="6477120" y="4800600"/>
            <a:ext cx="137160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203640"/>
        </p:xfrm>
        <a:graphic>
          <a:graphicData uri="http://schemas.openxmlformats.org/drawingml/2006/table">
            <a:tbl>
              <a:tblPr/>
              <a:tblGrid>
                <a:gridCol w="942840"/>
                <a:gridCol w="1255680"/>
                <a:gridCol w="3486240"/>
                <a:gridCol w="2544840"/>
              </a:tblGrid>
              <a:tr h="80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sr-CS" sz="1600" spc="-1" strike="noStrike">
                          <a:solidFill>
                            <a:srgbClr val="000000"/>
                          </a:solidFill>
                          <a:latin typeface="Arial"/>
                        </a:rPr>
                        <a:t>. </a:t>
                      </a:r>
                      <a:r>
                        <a:rPr b="1" lang="en-GB" sz="1600" spc="-1" strike="noStrike">
                          <a:solidFill>
                            <a:srgbClr val="000000"/>
                          </a:solidFill>
                          <a:latin typeface="Arial"/>
                        </a:rPr>
                        <a:t>Operations Manag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Упознавање студената са речником и терминологијом енглеског језика из области операционог менаџмен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4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 Innovation Manag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Calibri"/>
                          <a:ea typeface="Calibri"/>
                        </a:rPr>
                        <a:t>Студент ће научити основне појмове и термине који се тичу</a:t>
                      </a:r>
                      <a:r>
                        <a:rPr b="0" lang="sr-CS" sz="1400" spc="-1" strike="noStrike">
                          <a:solidFill>
                            <a:srgbClr val="000000"/>
                          </a:solidFill>
                          <a:latin typeface="Arial"/>
                          <a:ea typeface="Calibri"/>
                        </a:rPr>
                        <a:t>  </a:t>
                      </a:r>
                      <a:r>
                        <a:rPr b="0" lang="sr-CS" sz="1400" spc="-1" strike="noStrike">
                          <a:solidFill>
                            <a:srgbClr val="000000"/>
                          </a:solidFill>
                          <a:latin typeface="Calibri"/>
                          <a:ea typeface="Calibri"/>
                        </a:rPr>
                        <a:t>менаџмента иновациј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ainstorming (generating a large number of ideas for the solution of a probl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a:hlinkClick r:id="rId1"/>
          </p:cNvP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ototyping (gives conceptual design, engineering, manufacturing, sales and marketing the ability to virtually explore a complete product before it is bui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a:hlinkClick r:id="rId1"/>
          </p:cNvP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fecycle management –PLM (the process of managing the entire lifecycle of a product from its conception through design and manufacture, to service and dispo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Z (the theory of solving inventor’s problems);</a:t>
            </a:r>
            <a:endParaRPr b="0" lang="en-US" sz="2400" spc="-1" strike="noStrike">
              <a:solidFill>
                <a:srgbClr val="000000"/>
              </a:solidFill>
              <a:latin typeface="Arial"/>
            </a:endParaRPr>
          </a:p>
        </p:txBody>
      </p:sp>
      <p:sp>
        <p:nvSpPr>
          <p:cNvPr id="1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
            <a:hlinkClick r:id="rId1"/>
          </p:cNvPr>
          <p:cNvPicPr/>
          <p:nvPr/>
        </p:nvPicPr>
        <p:blipFill>
          <a:blip r:embed="rId2"/>
          <a:stretch/>
        </p:blipFill>
        <p:spPr>
          <a:xfrm>
            <a:off x="4648320" y="1600200"/>
            <a:ext cx="4038480" cy="4495680"/>
          </a:xfrm>
          <a:prstGeom prst="rect">
            <a:avLst/>
          </a:prstGeom>
          <a:ln w="0">
            <a:noFill/>
          </a:ln>
        </p:spPr>
      </p:pic>
      <p:pic>
        <p:nvPicPr>
          <p:cNvPr id="184" name="" descr="">
            <a:hlinkClick r:id="rId3"/>
          </p:cNvPr>
          <p:cNvPicPr/>
          <p:nvPr/>
        </p:nvPicPr>
        <p:blipFill>
          <a:blip r:embed="rId4"/>
          <a:stretch/>
        </p:blipFill>
        <p:spPr>
          <a:xfrm>
            <a:off x="4038480" y="914400"/>
            <a:ext cx="1325520" cy="132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gate process (also known as new product screening: the process of filtering or screening new product developments before they enter the stage gate process and start to consume significant resources);</a:t>
            </a:r>
            <a:endParaRPr b="0" lang="en-US" sz="2400" spc="-1" strike="noStrike">
              <a:solidFill>
                <a:srgbClr val="000000"/>
              </a:solidFill>
              <a:latin typeface="Arial"/>
            </a:endParaRPr>
          </a:p>
        </p:txBody>
      </p:sp>
      <p:sp>
        <p:nvSpPr>
          <p:cNvPr id="18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a:hlinkClick r:id="rId1"/>
          </p:cNvPr>
          <p:cNvPicPr/>
          <p:nvPr/>
        </p:nvPicPr>
        <p:blipFill>
          <a:blip r:embed="rId2"/>
          <a:stretch/>
        </p:blipFill>
        <p:spPr>
          <a:xfrm>
            <a:off x="4648320" y="1600200"/>
            <a:ext cx="39621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90" name="PlaceHolder 2"/>
          <p:cNvSpPr>
            <a:spLocks noGrp="1"/>
          </p:cNvSpPr>
          <p:nvPr>
            <p:ph/>
          </p:nvPr>
        </p:nvSpPr>
        <p:spPr>
          <a:xfrm>
            <a:off x="457200" y="1600200"/>
            <a:ext cx="3733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the discipline of planning, organizing and managing resources to bring about the successful completion of specific project goals and object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Basic project management process"/>
          <p:cNvPicPr/>
          <p:nvPr/>
        </p:nvPicPr>
        <p:blipFill>
          <a:blip r:embed="rId1"/>
          <a:stretch/>
        </p:blipFill>
        <p:spPr>
          <a:xfrm>
            <a:off x="3886200" y="1295280"/>
            <a:ext cx="5067360" cy="518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management (the application of systematic management to large classes of item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99" name="" descr="innovartis001-001.png"/>
          <p:cNvPicPr/>
          <p:nvPr/>
        </p:nvPicPr>
        <p:blipFill>
          <a:blip r:embed="rId1"/>
          <a:stretch/>
        </p:blipFill>
        <p:spPr>
          <a:xfrm>
            <a:off x="990720" y="1828800"/>
            <a:ext cx="5829120" cy="357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Innovation Management</a:t>
            </a:r>
            <a:br>
              <a:rPr sz="2800"/>
            </a:br>
            <a:endParaRPr b="0" lang="en-US" sz="28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sr-C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 Innovation Manag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Calibri"/>
                          <a:ea typeface="Calibri"/>
                        </a:rPr>
                        <a:t>Студент ће научити основне појмове и термине који се тичу</a:t>
                      </a:r>
                      <a:r>
                        <a:rPr b="0" lang="sr-CS" sz="1400" spc="-1" strike="noStrike">
                          <a:solidFill>
                            <a:srgbClr val="000000"/>
                          </a:solidFill>
                          <a:latin typeface="Arial"/>
                          <a:ea typeface="Calibri"/>
                        </a:rPr>
                        <a:t>  </a:t>
                      </a:r>
                      <a:r>
                        <a:rPr b="0" lang="sr-CS" sz="1400" spc="-1" strike="noStrike">
                          <a:solidFill>
                            <a:srgbClr val="000000"/>
                          </a:solidFill>
                          <a:latin typeface="Calibri"/>
                          <a:ea typeface="Calibri"/>
                        </a:rPr>
                        <a:t>менаџмента иновациј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a:hlinkClick r:id="rId1"/>
          </p:cNvPr>
          <p:cNvPicPr/>
          <p:nvPr/>
        </p:nvPicPr>
        <p:blipFill>
          <a:blip r:embed="rId2"/>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novation</a:t>
            </a:r>
            <a:endParaRPr b="0" lang="en-US" sz="32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novation</a:t>
            </a:r>
            <a:r>
              <a:rPr b="0" lang="es-ES" sz="3200" spc="-1" strike="noStrike">
                <a:solidFill>
                  <a:srgbClr val="000000"/>
                </a:solidFill>
                <a:latin typeface="Arial"/>
              </a:rPr>
              <a:t> is literally </a:t>
            </a:r>
            <a:r>
              <a:rPr b="1" lang="es-ES" sz="3200" spc="-1" strike="noStrike">
                <a:solidFill>
                  <a:srgbClr val="000000"/>
                </a:solidFill>
                <a:latin typeface="Arial"/>
              </a:rPr>
              <a:t>change</a:t>
            </a:r>
            <a:r>
              <a:rPr b="0" lang="es-ES" sz="3200" spc="-1" strike="noStrike">
                <a:solidFill>
                  <a:srgbClr val="000000"/>
                </a:solidFill>
                <a:latin typeface="Arial"/>
              </a:rPr>
              <a:t>. </a:t>
            </a:r>
            <a:r>
              <a:rPr b="0" i="1" lang="es-ES" sz="3200" spc="-1" strike="noStrike">
                <a:solidFill>
                  <a:srgbClr val="000000"/>
                </a:solidFill>
                <a:latin typeface="Arial"/>
              </a:rPr>
              <a:t>Purposeful</a:t>
            </a:r>
            <a:r>
              <a:rPr b="0" lang="es-ES" sz="3200" spc="-1" strike="noStrike">
                <a:solidFill>
                  <a:srgbClr val="000000"/>
                </a:solidFill>
                <a:latin typeface="Arial"/>
              </a:rPr>
              <a:t> change. And it spans two main varieties: </a:t>
            </a:r>
            <a:r>
              <a:rPr b="0" i="1" lang="es-ES" sz="3200" spc="-1" strike="noStrike">
                <a:solidFill>
                  <a:srgbClr val="000000"/>
                </a:solidFill>
                <a:latin typeface="Arial"/>
              </a:rPr>
              <a:t>relative</a:t>
            </a:r>
            <a:r>
              <a:rPr b="0" lang="es-ES" sz="3200" spc="-1" strike="noStrike">
                <a:solidFill>
                  <a:srgbClr val="000000"/>
                </a:solidFill>
                <a:latin typeface="Arial"/>
              </a:rPr>
              <a:t> innovation (when the agent becomes different from the rest of the field) and </a:t>
            </a:r>
            <a:r>
              <a:rPr b="0" i="1" lang="es-ES" sz="3200" spc="-1" strike="noStrike">
                <a:solidFill>
                  <a:srgbClr val="000000"/>
                </a:solidFill>
                <a:latin typeface="Arial"/>
              </a:rPr>
              <a:t>absolute</a:t>
            </a:r>
            <a:r>
              <a:rPr b="0" lang="es-ES" sz="3200" spc="-1" strike="noStrike">
                <a:solidFill>
                  <a:srgbClr val="000000"/>
                </a:solidFill>
                <a:latin typeface="Arial"/>
              </a:rPr>
              <a:t> innovation (when the agent changes,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re are four large groups of innovations available to an economic agent, according to the aspect that gets changed. It can be </a:t>
            </a:r>
            <a:r>
              <a:rPr b="0" i="1" lang="es-ES" sz="3200" spc="-1" strike="noStrike">
                <a:solidFill>
                  <a:srgbClr val="000000"/>
                </a:solidFill>
                <a:latin typeface="Arial"/>
              </a:rPr>
              <a:t>productive</a:t>
            </a:r>
            <a:r>
              <a:rPr b="0" lang="es-ES" sz="3200" spc="-1" strike="noStrike">
                <a:solidFill>
                  <a:srgbClr val="000000"/>
                </a:solidFill>
                <a:latin typeface="Arial"/>
              </a:rPr>
              <a:t>, it can be </a:t>
            </a:r>
            <a:r>
              <a:rPr b="0" i="1" lang="es-ES" sz="3200" spc="-1" strike="noStrike">
                <a:solidFill>
                  <a:srgbClr val="000000"/>
                </a:solidFill>
                <a:latin typeface="Arial"/>
              </a:rPr>
              <a:t>managerial</a:t>
            </a:r>
            <a:r>
              <a:rPr b="0" lang="es-ES" sz="3200" spc="-1" strike="noStrike">
                <a:solidFill>
                  <a:srgbClr val="000000"/>
                </a:solidFill>
                <a:latin typeface="Arial"/>
              </a:rPr>
              <a:t>, it can be </a:t>
            </a:r>
            <a:r>
              <a:rPr b="0" i="1" lang="es-ES" sz="3200" spc="-1" strike="noStrike">
                <a:solidFill>
                  <a:srgbClr val="000000"/>
                </a:solidFill>
                <a:latin typeface="Arial"/>
              </a:rPr>
              <a:t>financial</a:t>
            </a:r>
            <a:r>
              <a:rPr b="0" lang="es-ES" sz="3200" spc="-1" strike="noStrike">
                <a:solidFill>
                  <a:srgbClr val="000000"/>
                </a:solidFill>
                <a:latin typeface="Arial"/>
              </a:rPr>
              <a:t>, and it can affect </a:t>
            </a:r>
            <a:r>
              <a:rPr b="0" i="1" lang="es-ES" sz="3200" spc="-1" strike="noStrike">
                <a:solidFill>
                  <a:srgbClr val="000000"/>
                </a:solidFill>
                <a:latin typeface="Arial"/>
              </a:rPr>
              <a:t>distribution</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f </a:t>
            </a:r>
            <a:r>
              <a:rPr b="0" i="1" lang="es-ES" sz="3200" spc="-1" strike="noStrike">
                <a:solidFill>
                  <a:srgbClr val="000000"/>
                </a:solidFill>
                <a:latin typeface="Arial"/>
              </a:rPr>
              <a:t>productive</a:t>
            </a:r>
            <a:r>
              <a:rPr b="0" lang="es-ES" sz="3200" spc="-1" strike="noStrike">
                <a:solidFill>
                  <a:srgbClr val="000000"/>
                </a:solidFill>
                <a:latin typeface="Arial"/>
              </a:rPr>
              <a:t>, it affects the competitive qualities of the product or service delivered. This can comprise product design improvements as much as production methodology improvements. It is embodied as much in designs (intellectual property) as in experti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f </a:t>
            </a:r>
            <a:r>
              <a:rPr b="0" i="1" lang="es-ES" sz="3200" spc="-1" strike="noStrike">
                <a:solidFill>
                  <a:srgbClr val="000000"/>
                </a:solidFill>
                <a:latin typeface="Arial"/>
              </a:rPr>
              <a:t>managerial</a:t>
            </a:r>
            <a:r>
              <a:rPr b="0" lang="es-ES" sz="3200" spc="-1" strike="noStrike">
                <a:solidFill>
                  <a:srgbClr val="000000"/>
                </a:solidFill>
                <a:latin typeface="Arial"/>
              </a:rPr>
              <a:t>, it affects the way the agent’s resources are used to make the most return out of them. This comprises every aspect of the use of existing productive assets (including people, knowledge, time and money, as well as the rest) and is enbodied in procedures, methods, policies and information systems… and yes, it does include marketing practices and activiti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f </a:t>
            </a:r>
            <a:r>
              <a:rPr b="0" i="1" lang="es-ES" sz="3200" spc="-1" strike="noStrike">
                <a:solidFill>
                  <a:srgbClr val="000000"/>
                </a:solidFill>
                <a:latin typeface="Arial"/>
              </a:rPr>
              <a:t>financial</a:t>
            </a:r>
            <a:r>
              <a:rPr b="0" lang="es-ES" sz="3200" spc="-1" strike="noStrike">
                <a:solidFill>
                  <a:srgbClr val="000000"/>
                </a:solidFill>
                <a:latin typeface="Arial"/>
              </a:rPr>
              <a:t>, it affects the ability to acquire and make use of the resources needed to run and build the agent’s operations. This comprises everything from the cost of operating capital to the ability to execute project finance deals. It is embodied in the financial capabilities of the firm, both exercised and potenti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4:11:1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